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F7E3DA46-0903-40EE-B4AB-6B7483CD2E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eid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eljapäeval kaks loengut järj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2:00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13:45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erinevad teemad / kursuste ülevaated / õppejõ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ksamil kajastatud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osad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d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 IT valdkonnas: ajaloolised allik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llinna ülikoo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manitaa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erinevaid veebirakendus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Mõned soovitavad p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oomuliku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kka lugema kursuse lehel olevat kohustuslikku kirjand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1-09-02T08:35:31Z</dcterms:modified>
  <cp:revision>38</cp:revision>
  <dc:subject/>
  <dc:title> </dc:title>
</cp:coreProperties>
</file>